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719-5882-4B40-89CA-1ACC6F64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268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75D5-546F-4D55-84C0-B81DF93F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A3F-833E-4962-8704-346E4643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F61-BF27-4755-8B22-204EE19C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3EDD-2898-4F3E-AD8A-E83C44DD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1403-83FB-4C43-B69E-7253C5C5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4FB7-9541-45F1-B4D9-69E92323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ACB1-D1C3-4582-B6BC-74D10EB5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2A7A-4BC4-4C25-9979-11A04BAE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893B-6AA4-42D2-9D18-4811758D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E8A6-F869-4722-A59E-2401FAF2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488-9AEA-45D8-B6EA-61472EBD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BA89-5C75-41E0-B797-8F634A9A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A28E-7611-44BB-827C-156F3C80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268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B292-136E-40D9-84E2-DABB5389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0D00-1D3E-4E71-B8B9-A502CD0E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104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2680"/>
            <a:ext cx="274968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921D-F8D2-4DE8-B02F-0A59F00B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F4F-183B-4039-88F6-7ED2136B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E2B-3C77-4E44-A591-DFF334C5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ABC-FE65-45C3-9039-FEBB8B90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A91-47F2-4249-9761-6BC6095B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191-8A80-41A5-BD0A-38564385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268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395-A54F-4625-AA22-9D48E019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1040"/>
            <a:ext cx="416772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2680"/>
            <a:ext cx="8540640" cy="20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51B-D394-43D5-935E-EA901E08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2563-D07C-4BE3-A2F2-A3E402DBAD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008D-2953-41F1-B4D4-80288BB8D6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680" y="1751040"/>
            <a:ext cx="854064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4.4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课题学习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设计制作长方体形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的包装纸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23000" y="2419200"/>
            <a:ext cx="47246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自己设计制作一个正六棱柱形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底面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条边相等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角都相等的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边形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侧面都是长方形）的包装盒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自己设计制作一个圆柱形的包装纸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3240" y="1349280"/>
            <a:ext cx="18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巩固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本课提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8200" y="1530360"/>
            <a:ext cx="821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节课重点是通过一个具体的数学实践活动，设计制作长方体形状的包装纸盒，进一步丰富同学们对现实空间及图形的认识，培养同学们动手实践能力，发展同学们的推理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524640"/>
            <a:ext cx="660600" cy="24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72160" y="2832840"/>
            <a:ext cx="45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活动名称：设计制作长方体形状的包装纸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79224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法：观察、讨论、动手设计制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材料：厚（硬）纸板、直尺、裁纸刀、剪刀、胶  水、彩笔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准备：收集一些长方体形状的包装盒，如墨水瓶盒、粉笔盒、饼干盒、牛奶包装盒、牙膏盒等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54920" y="144684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活动内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169640"/>
            <a:ext cx="79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观察、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人为一组，各组确定所要设计制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包装盒的类别，明确分工．（这里以墨水瓶盒为例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54936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活动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55200" y="1054080"/>
            <a:ext cx="4370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观察作为参考物的包装盒，分析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各面、各棱的大小与位置关系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拆开盒子，把它铺平，得到表面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开图；观察它的形状，找出对应长方体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面的相应部分；度量各部分的尺寸，找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的相等关系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把表面展开图复原为包装盒，观察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如何折叠并粘到一起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多拆、装几个包装盒，注意它们的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同特征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经过讨论，确定本组的设计方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79160" y="475200"/>
            <a:ext cx="4569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．设计制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先在一张软纸上画出包装盒表面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开图的草图，简单设计一下，裁纸、折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效果．如果发生问题，调整原来的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，知道达到满意的初步设计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3068640"/>
            <a:ext cx="81374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在硬纸板上，按照初步设计，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好包装盒的表面展开图，注意要预留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粘合处，并要减去适当的棱角．在表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图上进行图案与文字的美术设计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75120" y="2056320"/>
            <a:ext cx="317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裁下表面展开图、折叠并粘好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合处，得到长方体包装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4572000" cy="2924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705720" y="388620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40920" y="1845720"/>
            <a:ext cx="463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各组展示本组的作品，并介绍设计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制作过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讨论本组的作品，重点探究以下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制成的包装盒是否是长方体？若不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哪个地方出现了问题？如何改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从使用性上看，包装盒形状、尺寸是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？用料是否节省？是否需要改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包装盒的外观设计是否美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对平面图形与立体图形的联系有哪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认识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38560" y="69228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．交流、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270680" y="1798200"/>
            <a:ext cx="8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．评价、小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08800" y="2970720"/>
            <a:ext cx="572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你对你的作品以及其他人的作品有何评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在制作包装盒的过程中你有什么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5:12:11Z</dcterms:created>
  <dc:creator>贺宏伟</dc:creator>
  <dc:description/>
  <dc:language>en-US</dc:language>
  <cp:lastModifiedBy>微软用户</cp:lastModifiedBy>
  <dcterms:modified xsi:type="dcterms:W3CDTF">2014-06-30T01:19:27Z</dcterms:modified>
  <cp:revision>152</cp:revision>
  <dc:subject/>
  <dc:title>幻灯片 1</dc:title>
</cp:coreProperties>
</file>